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283-38C4-42B3-B2D2-3BBD4DFF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D8D-717A-4BF4-8E60-F612552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F16-F3FC-4D61-A183-5F55835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1CD-CB52-460D-B781-CCE2DA90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CBF-BB86-48DA-98F2-A644C43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38C-B9A8-4327-A0A4-3C5FB257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615-B2E3-4FE8-B9FD-20D059B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12E-6201-4A69-AC95-1F600D4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C7E-A9B7-4CB3-B307-5CFEAAF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097-843F-4614-9C74-C13E951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54B-6EAA-4DC3-A86C-29033F8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D61-DD02-40C7-A015-08B2E0F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F74-D57A-4370-BCE2-686057E36B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6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9628"/>
          <a:stretch/>
        </p:blipFill>
        <p:spPr>
          <a:xfrm>
            <a:off x="1295280" y="1523880"/>
            <a:ext cx="662940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4267080"/>
            <a:ext cx="6629400" cy="1295640"/>
          </a:xfrm>
          <a:prstGeom prst="rect">
            <a:avLst/>
          </a:prstGeom>
          <a:solidFill>
            <a:srgbClr val="57fac4"/>
          </a:solidFill>
          <a:ln w="9360">
            <a:solidFill>
              <a:srgbClr val="5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9072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0656" r="0" b="48905"/>
          <a:stretch/>
        </p:blipFill>
        <p:spPr>
          <a:xfrm>
            <a:off x="914400" y="297180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14400" y="68580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50307" r="0" b="44148"/>
          <a:stretch/>
        </p:blipFill>
        <p:spPr>
          <a:xfrm>
            <a:off x="1143000" y="3048120"/>
            <a:ext cx="701028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143000" y="914400"/>
            <a:ext cx="70102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3733920"/>
            <a:ext cx="685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56002" r="0" b="34923"/>
          <a:stretch/>
        </p:blipFill>
        <p:spPr>
          <a:xfrm>
            <a:off x="990720" y="30481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90720" y="914400"/>
            <a:ext cx="74674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39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65089" r="0" b="24797"/>
          <a:stretch/>
        </p:blipFill>
        <p:spPr>
          <a:xfrm>
            <a:off x="1066680" y="27432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066680" y="76212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7010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487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8076960" cy="419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7696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7023"/>
          <a:stretch/>
        </p:blipFill>
        <p:spPr>
          <a:xfrm>
            <a:off x="53352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96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6110"/>
          <a:stretch/>
        </p:blipFill>
        <p:spPr>
          <a:xfrm>
            <a:off x="60948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65953" r="0" b="23395"/>
          <a:stretch/>
        </p:blipFill>
        <p:spPr>
          <a:xfrm>
            <a:off x="1219320" y="350532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09480"/>
            <a:ext cx="708660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701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76055" r="0" b="17099"/>
          <a:stretch/>
        </p:blipFill>
        <p:spPr>
          <a:xfrm>
            <a:off x="1219320" y="342900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7010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59870" r="0" b="14733"/>
          <a:stretch/>
        </p:blipFill>
        <p:spPr>
          <a:xfrm>
            <a:off x="838080" y="358128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838080"/>
            <a:ext cx="7467840" cy="2743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5308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5653" r="0" b="23970"/>
          <a:stretch/>
        </p:blipFill>
        <p:spPr>
          <a:xfrm>
            <a:off x="762120" y="342900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762120" y="685800"/>
            <a:ext cx="75438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467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76042" r="0" b="14733"/>
          <a:stretch/>
        </p:blipFill>
        <p:spPr>
          <a:xfrm>
            <a:off x="838080" y="320040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457200"/>
            <a:ext cx="739152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7120" y="37339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31130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13519"/>
          <a:stretch/>
        </p:blipFill>
        <p:spPr>
          <a:xfrm>
            <a:off x="685800" y="457200"/>
            <a:ext cx="8001000" cy="586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0" y="6095880"/>
            <a:ext cx="1752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60721" r="0" b="29077"/>
          <a:stretch/>
        </p:blipFill>
        <p:spPr>
          <a:xfrm>
            <a:off x="609480" y="3505320"/>
            <a:ext cx="77724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71235" r="0" b="23770"/>
          <a:stretch/>
        </p:blipFill>
        <p:spPr>
          <a:xfrm>
            <a:off x="609480" y="3657600"/>
            <a:ext cx="77724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7696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8580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76242" r="0" b="14357"/>
          <a:stretch/>
        </p:blipFill>
        <p:spPr>
          <a:xfrm>
            <a:off x="685800" y="3657600"/>
            <a:ext cx="777240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4191120"/>
            <a:ext cx="17528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467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1343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0492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62511" r="0" b="27350"/>
          <a:stretch/>
        </p:blipFill>
        <p:spPr>
          <a:xfrm>
            <a:off x="609480" y="29718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800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380880" y="380880"/>
            <a:ext cx="822960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72274" r="0" b="23445"/>
          <a:stretch/>
        </p:blipFill>
        <p:spPr>
          <a:xfrm>
            <a:off x="380880" y="39625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800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77356" r="0" b="17574"/>
          <a:stretch/>
        </p:blipFill>
        <p:spPr>
          <a:xfrm>
            <a:off x="609480" y="3809880"/>
            <a:ext cx="807732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04:19Z</dcterms:modified>
  <cp:revision>221</cp:revision>
  <dc:subject/>
  <dc:title>Slide 1</dc:title>
</cp:coreProperties>
</file>